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D08-0A10-4348-B260-CB71B27B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80D-2493-467C-A3D9-550987C1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F2F-0B48-40D6-9066-463155CB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631-1733-4AD6-A4E3-B04F8386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260EA-AF1B-4973-98E6-4852AAE1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9D9C9-BE65-4E8D-85D1-7528A1CE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4AFA9-C229-440A-9F15-E6DE31D5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BBC72-DA7E-47C3-AF4F-7646ADE1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82188-5940-4A64-87F1-AA89C615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51F7C-4731-43EC-9B01-7807B1CF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0EDFF-979E-4589-906D-2839BC1D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8900-0F34-498F-9760-6133C035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E8CCD-353C-47FE-841C-91A519A7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29F43-DA17-4B26-A706-A4E8A90B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168AB-55AA-4BDC-A45A-2BBE36D0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0D714-26F6-4FB7-8592-2BDBE03C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088ED-CB99-4B6A-B8B0-1A09D877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913-9FC6-4741-A14A-4127826B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F6B-AE7B-4B5E-ABB5-D79EC7E5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9BE-3B49-4298-9187-58EA4062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680-3401-48EA-9632-1B839DCC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87F-B804-4C0A-8387-C6BC9947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25D-8352-48CB-8993-32768AE0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BE5-063B-4B8D-9CE4-F0E8277A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9F3F-20CB-470A-B646-976F90AAE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2229-4A84-4498-9ED2-A392C128F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riting a Propos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rie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verall Solu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1600200"/>
          <a:ext cx="8533800" cy="4525200"/>
        </p:xfrm>
        <a:graphic>
          <a:graphicData uri="http://schemas.openxmlformats.org/drawingml/2006/table">
            <a:tbl>
              <a:tblPr/>
              <a:tblGrid>
                <a:gridCol w="1231920"/>
                <a:gridCol w="2002680"/>
                <a:gridCol w="1895040"/>
                <a:gridCol w="1170720"/>
                <a:gridCol w="1170720"/>
                <a:gridCol w="1062720"/>
              </a:tblGrid>
              <a:tr h="113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Water Capacity (m³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 Capacity (m³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st Wa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st F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otal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KY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0.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7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1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KF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0.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6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9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J'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8.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6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1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8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J De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0.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33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35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SJJ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0.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56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61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Value for Wa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905120"/>
          <a:ext cx="8229240" cy="4114080"/>
        </p:xfrm>
        <a:graphic>
          <a:graphicData uri="http://schemas.openxmlformats.org/drawingml/2006/table">
            <a:tbl>
              <a:tblPr/>
              <a:tblGrid>
                <a:gridCol w="1976400"/>
                <a:gridCol w="3212640"/>
                <a:gridCol w="3040200"/>
              </a:tblGrid>
              <a:tr h="68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Water Cost per m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 Cost per m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J D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8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SJJ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3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J'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6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KF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7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K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1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8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Value for Foo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905120"/>
          <a:ext cx="8229240" cy="4114080"/>
        </p:xfrm>
        <a:graphic>
          <a:graphicData uri="http://schemas.openxmlformats.org/drawingml/2006/table">
            <a:tbl>
              <a:tblPr/>
              <a:tblGrid>
                <a:gridCol w="1976400"/>
                <a:gridCol w="3212640"/>
                <a:gridCol w="3040200"/>
              </a:tblGrid>
              <a:tr h="68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Water Cost per m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 Cost per m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J'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6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J D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8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KF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7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SJJ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3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K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1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8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Value Tot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905120"/>
          <a:ext cx="8228520" cy="4114080"/>
        </p:xfrm>
        <a:graphic>
          <a:graphicData uri="http://schemas.openxmlformats.org/drawingml/2006/table">
            <a:tbl>
              <a:tblPr/>
              <a:tblGrid>
                <a:gridCol w="3134520"/>
                <a:gridCol w="5094000"/>
              </a:tblGrid>
              <a:tr h="68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otal cost per m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J'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63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J D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06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KF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72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SJJ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16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K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836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ybe a combined effor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95280" y="2320920"/>
          <a:ext cx="6324840" cy="2233440"/>
        </p:xfrm>
        <a:graphic>
          <a:graphicData uri="http://schemas.openxmlformats.org/drawingml/2006/table">
            <a:tbl>
              <a:tblPr/>
              <a:tblGrid>
                <a:gridCol w="3314880"/>
                <a:gridCol w="3009960"/>
              </a:tblGrid>
              <a:tr h="484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KFC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J Dev Fo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46 m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0.84 m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$66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$2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$69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ality Built Water Stor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linder close to square sha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id concrete b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SJJ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2:02:12Z</dcterms:created>
  <dc:creator>Cameron</dc:creator>
  <dc:description/>
  <dc:language>en-US</dc:language>
  <cp:lastModifiedBy>Cameron</cp:lastModifiedBy>
  <dcterms:modified xsi:type="dcterms:W3CDTF">2008-12-03T12:22:19Z</dcterms:modified>
  <cp:revision>3</cp:revision>
  <dc:subject/>
  <dc:title>Writing a Proposal</dc:title>
</cp:coreProperties>
</file>